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2F71-D5B3-4B0D-975C-D8AFD14E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2EDC-1A62-408E-BD6D-3D87ECA4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BB08B-1CB0-4C6C-AA3A-AD068226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DD5D6-513F-464B-AF3C-1E9C86C7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77DBF-174E-4F96-875B-E4E072E3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DC7F8-ADE7-45FD-A76D-BFEDA07B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3FD98-57CD-477E-B34E-C8F82689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93582-28B7-471C-951C-208D9579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44461-193C-43F7-B573-629A7D8D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95E71-9564-429A-9280-A7E00A07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363AD-DE41-45A9-9AA3-16DF305E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79875-BB28-4664-9A94-32630EB1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AAC3-EBF6-4854-97C9-C2E1EE4DC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B35D1-5F15-4D9B-B44A-653D3383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55BEE-BD4C-4C9A-9527-E2F59E3C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F7FF0-91FE-40CF-8B66-8A85F5D7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1A985-95CE-45E0-90B8-2531FA1D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82406-B28A-4B29-BFB0-E2C7A313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8FC08-A57C-4B2C-993F-BEC26A2D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2B9F9-C77C-4734-B1B0-EC5C5687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5EFFB-F3A2-42DD-9275-E142D4F4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BE223-DBBD-4BC1-A051-BB4766B6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C4D4D-31AF-461B-A826-159CA81F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54BC-E6FF-4095-9404-441BC451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2A40A-2478-44DF-A326-BEDEE309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41432-BFEF-4EA7-8F38-D7F7C06E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23772-7E7B-44ED-935A-96F510D7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12B29-F0E1-48E9-86E5-2D0C198C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E6EDE-2375-43D5-8ADE-2E734CA5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A1E18-BFA0-48C8-B9B9-2F907F20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DC5B6-2D24-40A8-BA50-48CB9ED7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5D790-9328-4951-A77A-F649EFF0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4EFF6-D29A-445A-8C04-990E5161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6B3D3-5388-4913-A535-F737024F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CE89-1F8C-4F70-B176-FA173152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7BE62-B025-4ECE-BF21-166E93EE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67F9A-937F-4D66-85A7-91DA3E4F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9F16C-5658-4C8D-9D61-05AA9C97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4621B-1A29-49CB-BD0B-4B6C4DFF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54BE9-B1DE-4440-8927-5316891E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F3491-ACFB-4E26-B0B6-5E53CF13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9FAD1-37A7-4D06-BAE7-15F713A1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DF9EC-6CE2-4FD0-80BC-907605D2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EA888-D675-4EA5-B0FA-84B3210E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155A7-1BD1-4AF5-BF79-2FA61100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62B2-733F-4545-A849-BD9E2F1D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D027A-B957-471E-BE64-B538AD6B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2021D-C23E-478E-8B3E-AB4CF42C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3E3D6-0895-49C1-BBBE-BA783FDD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B0F0A-DF0F-465D-93BD-34CD5201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132DD-914F-4378-BC16-C3E7B124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C436C-8F2F-417C-816E-38EEF59E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7716E-C516-430D-8A5C-B9B06472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D67FF-E628-483D-AC67-88C047D4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2B984-9C3F-48A9-8674-E459D751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35FC2-A281-42AC-8632-C7DDF666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D7A1-E548-4EF4-AABD-A82F2F50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F7868-50EE-4671-A8C7-291C8F8E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08ECD-9747-4127-9C38-1089F3C6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94021-48D1-4A94-8011-E4066D90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7BF3A-5ADF-4933-A2D4-2BEED509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C9600-3886-4B09-9E3D-D87DD7AF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992F5-2B56-486F-B07F-1AFFE98B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10EB8-520C-411D-8E99-60DFFCC0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537F12-5A28-4E0A-B9CA-58EB1AE3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3C4572-CFAD-4E00-B19C-1B44C688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55E2B1-686C-4479-821B-E837BEF4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3F7A-6FE3-4D79-95AB-FE77779F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9D8523-BFAF-467B-8929-CEDD6585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B52CB-952C-4F70-8790-8A4C3FB6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9CE9B2-344D-427E-878A-33BC6069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F539DF-6928-48D4-A6F5-6FF1E345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614785-39E6-4909-B021-8B55346F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6E58C3-C9A7-4CBD-85F7-82163306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6CD42B-4D05-40FA-99DF-EBBBF281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885363-E11B-4D86-9884-57E4CB23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B0F02C-C375-4C7C-9505-B04ABB0C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8747ED-DCFE-43A5-AA69-48C8E596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E05B-E882-4366-A1A2-FE953E7F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42F7B9-E5E5-4DB6-9818-7F42FF86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1ADEA7-2CBD-4920-A239-21F2A25A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2CD5C0-75FC-4A78-8A97-03DC3828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D5D4CE-ECA2-4FEC-852F-C70DF436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111C47-AAAA-4F99-9B4B-6294406B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BFBAB2-19F3-4752-B960-2DA30F93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5D920F-55A6-4E04-B60F-8073B123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105353-991A-4299-B682-A910EC7C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759E3F-FE52-4593-BACF-F6298098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201205-2CFE-4AC5-B7B7-1D175A1F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0DBE-24FC-4349-AB2F-708DC0DD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32C7BC-7BFC-4C11-AD43-BFE3F6A9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AE2388-95BF-4F82-9C02-B1E2C95E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1F3147-DF3C-45CA-90CD-B481F4CF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A49002-4E46-4BB1-846E-FCCA2C7E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BC1BB1-1BFE-4B3C-AA7D-21706A4E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31FFBE-D945-4304-BAEC-DEBD8203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64E710-17C5-4FB2-9926-42866A73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7F43B8-9228-4654-A0AF-193961FA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AB54BD-D643-4ADC-B67B-7082217C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8F8399-DBE7-4084-99E5-E7CFE948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C572-3BF0-4B63-A524-80C93E56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2BC2AA-6CF3-4339-BBCB-19224CBE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7ED71F-1A88-49D6-A6A5-7DA8A33F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913DED-9985-4150-BE2B-32D4DF5B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66A8FD-FEAF-4A9A-9CB2-FFA73618D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6316B5-C990-4220-879A-7D47267D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B95449-7290-4DD6-8623-976BDCB8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FA97C1-C852-4E76-9FA5-3CF42C0B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2B5188-9B64-428B-ACA6-4F4B2EF2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832949-AF11-4B53-A506-7A0FC90E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98A103-E97B-47B0-A53B-27521060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9D01-1913-437F-AA15-48D3402D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9751-9BA7-47C5-94E0-31451977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237F88-9EAF-4774-8CAA-3CC4CE92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DD0D6F-8E21-4C4C-89F8-3E8996C2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23CCB9-F82F-4179-8463-4F52822A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74DF6D-8E32-46A3-9918-07C57FBD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996B71-399A-4CEB-881C-2E2BBD21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EDAF59-C844-4F50-9312-AC865D79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0206DB-4819-4254-BA7A-E8151778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002822-9DA1-4A82-96B4-DA59D012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341199-5B3B-4473-BF04-028EE176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E8E2FA-3704-433B-B88F-2F0E067A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55CB-893A-4A3E-8D62-4E9A01B5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D1B2A9-B6A3-4EE0-8A69-01D35C96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A767F3-8390-4692-B017-CE028064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19CF63-9A23-491F-B132-25B3C5EB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D62949-1B72-41A3-BC97-31711645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4CD39D-72BC-485B-9413-90E910BF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2E908F-866B-41A7-9CC4-E30130E8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B70508-9D68-4E90-99B5-3D46F91F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A24D27-7EA8-42B2-B632-B6022029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3D68F0-44CB-4E07-8502-5069411F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34B37C-1A36-4E62-8FA1-773E2337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F836-AE09-4A15-9F4E-9ED41096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F2A0B5-CFB3-4D43-AA19-DDDDDE35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B60A47-621B-4233-9F4C-487A7293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15C4A1-B5C4-43F5-B7E6-1910CA09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F92965-1C11-4BD9-8F37-A149B44B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8C5F46-E955-422C-BE69-57883F32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51639E-EFE2-48EB-831B-43D5AE63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FB1AB9-6FBE-4101-BCDF-07B0939C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6E5D52-4796-4A92-9B04-85F0D62D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0ABA65-3414-45AB-9929-A0DFA8AD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2AC2B2-BEEA-4862-BDAF-FA6B2A70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EC9B-6B16-4FE8-9EBF-44C85A79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DF0812-9ACC-411A-B21C-BB20945F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68640F-9ED9-46E3-96F3-C2524D6F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9AE824-009E-45F9-91D6-84799E38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8AD87B-5725-4E61-900E-523844B7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159965-5295-49B8-92A8-AB234178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09B2B4-3F56-4662-B45E-75FE2845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40F303-EFDF-4479-B9FF-E7DB1584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C07114-5C4D-4B09-B464-32D5704E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4F8A39-2E7F-4B87-B262-95D04046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5C5748-8C5D-44D8-AE93-1AC0B4CB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3F28-0CEA-41C6-A586-CEDCE982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C49B04-C81D-4E23-A13E-DFBB3A67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197CF6-2895-4269-AEEF-5853A521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35FAC7-E621-4ECF-88E6-C3578760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A45F94-FF27-4550-A414-EA4CB0B9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FEC2D4-B5D6-4407-ADA9-15E2DA11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8D8F33-8360-45E8-A61C-A829794E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9020C3-7737-4E23-973C-3F7DD459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F1C4E1-D9CD-4A15-A08D-A6A3AB81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CAA285-978A-4D3D-9831-199E5AB5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3C5C6A-8277-49AE-B965-46F76BDE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E4B616-1255-4586-9AC9-C4B7ACEB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EDA703-DA40-43BB-8199-388C0946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3E46C6-7BD2-4AFB-8A3F-C15DAD108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14EB-3A59-4781-8AD5-3864EBA6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1B1CF-6807-4A77-8065-F4E64E62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1E666-2E9C-4667-A231-0EB853D7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43DA0-136C-4319-B2D5-F775E696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2029-22BE-4CBD-8A2D-80013D20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19207-379A-4C8D-8FCE-4972C806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58515-5C65-414B-AF19-B57DDC5D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EBA27-2F5E-4576-8007-826E3CFD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257BA-39DF-4E19-BA6B-84973A44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5EB8D-7635-463E-9749-B6EAD733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856AD-CB74-4660-9F54-F07961F8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BA213-4124-481D-9839-B4937EA0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2EF8D-5197-4402-8259-A8C39248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9E03D-D73B-46BC-A5C2-D83B5BE9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FB09F-6BA0-4D28-859E-D20C3324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E68B-1289-42E5-831E-1699D8BF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31D65-4CB2-444B-8178-96BDF241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C0D5D-3BF8-4E43-81E7-67C2CAD3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20592-FBF9-4C25-8CCA-982A1913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7025B-FB1D-4582-B92F-F42331A1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C7FBE-D5C7-4266-9B24-E029E121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A59E4-4E2D-4B19-853C-ADD3C6C6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E8073-FC81-4B3D-9646-39FAF700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F4185-336E-4A65-B691-ACC8CF17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6F2A3-2FDE-4445-B0EC-8F4BBA58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980D9-2FCE-4E94-A10E-BB16B68E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0916-0E41-40EF-81FB-58CEA86B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D64D8-414D-411B-ADD6-5C8F7BEC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80DBA-77FB-4A01-8EE2-E0D3B861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EFCDF-CCBF-4134-8CFB-1B819925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5AC20-3859-4683-9C3B-0952A911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D9275-13F3-4238-B9AD-4291F8C3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8730F-8FA0-4C67-9674-DA669952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E4F2F-96A7-4CD5-9AD7-AB8C1290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0BE4D-ABFF-455B-9ACC-5687D375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A4383-715C-4637-A102-FC7D82CE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1F053-61CF-40C2-B961-6540678E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7EA1-2A61-46AF-8BBD-B8CEE63D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FE076-42C5-4FDD-9FAE-183AC2B1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7E0EA-28C6-4F34-97D5-6EE7F157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684B6-C61E-4834-A1F8-827E601E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2C513-7005-4DBA-850C-5352D182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B5A8E-FAB1-4932-918F-242421B8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91DB6-E2F7-4A54-8EE2-74B50DF1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5A672-2F59-425B-B7DD-6ECD3D66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D27F4-73A5-4240-A3B2-0C126ABF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45B26-C6A8-4E3D-9773-2EB42532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E3985-4F02-437F-91DE-F2431E5A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B235-55A4-4526-8454-E30C46C8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9BDDB-C1D0-4BC5-B9AE-80B5E9CE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2F263-5F56-432D-9112-52B05E89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0F6C2-DE9D-4647-AA4B-257C18AE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5905E-B19B-45C9-A221-3BAE0832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27A71-D0C8-4243-9FC9-D16F91E1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9D8F3-3F1C-4BEB-9B77-34DC7BD5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5756C-601B-41F9-9B07-D5518E39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DB136-4826-492A-9C2D-74BEF337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6012B-E04E-43E0-A180-9596E938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B368C-CB39-4E4F-A53D-FC90AD9D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261C-BCB0-4A09-B817-4C6E6D23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D0F14-87BE-4A88-9B45-0B660C11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11036-A55B-4186-91E0-FAD362DE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834ED-B494-4375-BB23-4AEDBB24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3659D-F8DD-4AF9-BED7-933848D0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5A443-E134-4814-9202-46A1E374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BB25B-0C0B-45C5-A078-8B252C74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D610D-8E25-4879-9D56-32F527B4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5E301-C7A4-434E-A67E-A0EB7530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FB49D-CAFB-4160-AA09-D715C1FA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F0583-08DF-49CA-95FA-683D6A89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0156-3044-4E4E-A4CF-01A8016752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0D10-F6A9-4828-87B5-CEA107B1A9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10D1-6380-4846-9B3F-6BA49E3BB3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816C-0A23-434C-9B6F-E3912594E0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629E-F768-40BF-AC51-5F97BE2CB9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4B7B-D032-487A-B767-A964292FEF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A2A8-326C-4E6A-9AC1-2E5DA9B010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794E-B376-4D4F-AD56-809E78514A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1744-56AC-4DD8-9AC5-F54F769937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DF4F-0618-4CFA-A207-E727875FCA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3767-3A35-41D6-957A-0A7A3ED035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3EC1-EFE9-4B45-B3DC-327C67937F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26A9-5A23-4A47-9E79-C0EB51D52E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AEE4-7AD4-4A0F-9CED-909B666812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78ED-66D1-432F-ADE9-7E9FE1FD84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2068-CBFA-45BF-9B21-D6F7C50CCA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3BE0-D6AC-4074-B992-01D41838CE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63F8-B5C9-4A85-8407-70B5597E4B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96A1-12C3-41BB-B4B2-6E421191FC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6FAA-4988-495B-ABCB-EF2C7D0FD4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FFD2-199B-4EEF-A2DF-F1107AA62D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B3A6-9C3B-4290-B71B-751987D2F0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ED6E-A1C2-4C0E-9BFF-EB34AC07F7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2DC6-EEA7-47E9-9669-0D60E02D1E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B0E4-DC75-4DCB-B75E-4140E49D70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F403-D58B-4F9D-A75C-EBB5880AB8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0075-6431-40ED-BC4A-EB007842F6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70BF-2735-4812-9DB2-DFEF30E5E1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9110-D8C0-4DB6-9238-3EF6127252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FC0E-CAD7-4BF9-9121-709218CF2E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18DC-6F01-4218-9348-9CB422BAB2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9E3C-B679-4FBD-AEF8-215468D832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5133-95B4-431F-A257-BB6E51D8F9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F96A-5B6B-4622-9BBD-E8D8D9904E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7645-0FCA-4B94-9A81-8FB74C6CF6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7421-25B8-420C-BEDC-167DE2D878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8029-C9D3-4E7F-B580-64AA76237D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B116-1591-4C46-B55A-FE8892956E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6D39-A282-4996-A6D3-3476335AA6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2916360" y="2133720"/>
            <a:ext cx="3279600" cy="777600"/>
          </a:xfrm>
          <a:prstGeom prst="rect">
            <a:avLst/>
          </a:prstGeom>
          <a:ln w="0">
            <a:noFill/>
          </a:ln>
        </p:spPr>
      </p:pic>
      <p:pic>
        <p:nvPicPr>
          <p:cNvPr id="1022" name="图片 2052" descr=""/>
          <p:cNvPicPr/>
          <p:nvPr/>
        </p:nvPicPr>
        <p:blipFill>
          <a:blip r:embed="rId2"/>
          <a:stretch/>
        </p:blipFill>
        <p:spPr>
          <a:xfrm>
            <a:off x="539640" y="3141720"/>
            <a:ext cx="81630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0" name="图片 13313" descr=""/>
          <p:cNvPicPr/>
          <p:nvPr/>
        </p:nvPicPr>
        <p:blipFill>
          <a:blip r:embed="rId1"/>
          <a:stretch/>
        </p:blipFill>
        <p:spPr>
          <a:xfrm>
            <a:off x="233280" y="1300320"/>
            <a:ext cx="8677440" cy="42573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2"/>
          <a:stretch/>
        </p:blipFill>
        <p:spPr>
          <a:xfrm>
            <a:off x="1332000" y="213372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3"/>
          <a:stretch/>
        </p:blipFill>
        <p:spPr>
          <a:xfrm>
            <a:off x="1258920" y="2924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4"/>
          <a:stretch/>
        </p:blipFill>
        <p:spPr>
          <a:xfrm>
            <a:off x="1332000" y="3573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5"/>
          <a:stretch/>
        </p:blipFill>
        <p:spPr>
          <a:xfrm>
            <a:off x="1258920" y="4264200"/>
            <a:ext cx="504720" cy="4489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6"/>
          <a:stretch/>
        </p:blipFill>
        <p:spPr>
          <a:xfrm>
            <a:off x="1360440" y="494172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8" name="图片 14337" descr=""/>
          <p:cNvPicPr/>
          <p:nvPr/>
        </p:nvPicPr>
        <p:blipFill>
          <a:blip r:embed="rId1"/>
          <a:stretch/>
        </p:blipFill>
        <p:spPr>
          <a:xfrm>
            <a:off x="633240" y="1090440"/>
            <a:ext cx="7877520" cy="46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5" name="图片 22529" descr=""/>
          <p:cNvPicPr/>
          <p:nvPr/>
        </p:nvPicPr>
        <p:blipFill>
          <a:blip r:embed="rId1"/>
          <a:stretch/>
        </p:blipFill>
        <p:spPr>
          <a:xfrm>
            <a:off x="781200" y="1271520"/>
            <a:ext cx="7581600" cy="43149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2556000" y="27226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4211640" y="27226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4672080" y="35877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2627280" y="4451400"/>
            <a:ext cx="100800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2195640" y="5300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7"/>
          <a:stretch/>
        </p:blipFill>
        <p:spPr>
          <a:xfrm>
            <a:off x="6054840" y="53006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图片 21505" descr=""/>
          <p:cNvPicPr/>
          <p:nvPr/>
        </p:nvPicPr>
        <p:blipFill>
          <a:blip r:embed="rId1"/>
          <a:stretch/>
        </p:blipFill>
        <p:spPr>
          <a:xfrm>
            <a:off x="262080" y="666720"/>
            <a:ext cx="8619840" cy="55245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1332000" y="1557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1332000" y="443700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9" name="图片 20481" descr=""/>
          <p:cNvPicPr/>
          <p:nvPr/>
        </p:nvPicPr>
        <p:blipFill>
          <a:blip r:embed="rId1"/>
          <a:stretch/>
        </p:blipFill>
        <p:spPr>
          <a:xfrm>
            <a:off x="495360" y="855720"/>
            <a:ext cx="8153280" cy="53816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826920" y="90792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826920" y="365904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8193" descr=""/>
          <p:cNvPicPr/>
          <p:nvPr/>
        </p:nvPicPr>
        <p:blipFill>
          <a:blip r:embed="rId1"/>
          <a:stretch/>
        </p:blipFill>
        <p:spPr>
          <a:xfrm>
            <a:off x="457200" y="2043000"/>
            <a:ext cx="8229600" cy="27720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图片 9217" descr=""/>
          <p:cNvPicPr/>
          <p:nvPr/>
        </p:nvPicPr>
        <p:blipFill>
          <a:blip r:embed="rId1"/>
          <a:stretch/>
        </p:blipFill>
        <p:spPr>
          <a:xfrm>
            <a:off x="114480" y="814320"/>
            <a:ext cx="8915400" cy="56390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3203640" y="2392200"/>
            <a:ext cx="792000" cy="449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2987640" y="3789360"/>
            <a:ext cx="1152720" cy="4492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4"/>
          <a:stretch/>
        </p:blipFill>
        <p:spPr>
          <a:xfrm>
            <a:off x="2627280" y="5891040"/>
            <a:ext cx="1224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图片 10241" descr=""/>
          <p:cNvPicPr/>
          <p:nvPr/>
        </p:nvPicPr>
        <p:blipFill>
          <a:blip r:embed="rId1"/>
          <a:stretch/>
        </p:blipFill>
        <p:spPr>
          <a:xfrm>
            <a:off x="419040" y="1062000"/>
            <a:ext cx="8305920" cy="47340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3130560" y="17445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6516720" y="3803760"/>
            <a:ext cx="1440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图片 12289" descr=""/>
          <p:cNvPicPr/>
          <p:nvPr/>
        </p:nvPicPr>
        <p:blipFill>
          <a:blip r:embed="rId1"/>
          <a:stretch/>
        </p:blipFill>
        <p:spPr>
          <a:xfrm>
            <a:off x="138240" y="843120"/>
            <a:ext cx="8867520" cy="56102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2"/>
          <a:stretch/>
        </p:blipFill>
        <p:spPr>
          <a:xfrm>
            <a:off x="1403280" y="2392200"/>
            <a:ext cx="3168720" cy="449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3"/>
          <a:stretch/>
        </p:blipFill>
        <p:spPr>
          <a:xfrm>
            <a:off x="1547640" y="4479840"/>
            <a:ext cx="5616720" cy="449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4"/>
          <a:stretch/>
        </p:blipFill>
        <p:spPr>
          <a:xfrm>
            <a:off x="1258920" y="5891040"/>
            <a:ext cx="5616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5" name="图片 11265" descr=""/>
          <p:cNvPicPr/>
          <p:nvPr/>
        </p:nvPicPr>
        <p:blipFill>
          <a:blip r:embed="rId1"/>
          <a:stretch/>
        </p:blipFill>
        <p:spPr>
          <a:xfrm>
            <a:off x="490680" y="1724040"/>
            <a:ext cx="8162640" cy="34099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2"/>
          <a:stretch/>
        </p:blipFill>
        <p:spPr>
          <a:xfrm>
            <a:off x="1042920" y="3184560"/>
            <a:ext cx="6913800" cy="4492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3"/>
          <a:stretch/>
        </p:blipFill>
        <p:spPr>
          <a:xfrm>
            <a:off x="611280" y="4581360"/>
            <a:ext cx="69134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9:15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